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6BA-88E8-4251-AC1B-9F614373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2FC-BA69-4D25-9AF9-302B0872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5565-74E6-4AA2-9BFB-4CBFBBAA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A046-CAAB-4BE5-A299-D0104657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A954-BE6B-444C-924B-B23DDF1C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B43A-2902-405E-B6B1-8F95CDCC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5AC4-5A8A-4A71-9A5D-50B51F64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C09E-093A-45C6-9DF1-3A96ABB8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E7F6-C898-4501-97C3-074B5A4C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275E-595E-4AEF-8FF4-1B9AB971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D303-A059-4CAF-A8AD-FAA04105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C08-47C4-4B1F-810F-C6CEADAC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E0DB-7274-4D8A-BF50-DA601D03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E846-93C3-49D9-BBFD-A2EB79B7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DC45-7992-4CBF-BEB0-B790C1BA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FEF3-825F-4E5F-8A22-06AC5F09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FB14-1FE5-4600-B558-F67D229D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726-8F45-4330-A8EC-3BB3E157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279-64CD-4663-9BA6-57066CCF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722-BAA1-4815-9F5C-62F42D49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77E-200A-4222-9FE2-DB7D42D8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40E-EB12-4087-961E-1C162D7C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7E8-8A04-4925-81CF-C5945C22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9083-DB6D-4072-835D-EBB9E55A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4A9A-4E7F-47EC-AA22-CF9D1FF5B1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3DCC-1044-4332-80B5-0DA4FA56EA7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magazine.com/view/?3790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ppl.org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zstarnet.com/metro/198476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hisamericanlife.org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lordotrings.com/noflash/biography.asp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asics of APA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guide to student pap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you have more than one source by the same author, arrange by year of publication beginning with the earliest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apitalization: titles of books and articles are treated like sentences with only the first word capitalized. (Proper nouns should be capitalized, just as they would in a sentence.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ngle-author entries precede those with co-author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ultiple authors are joined with an ampersand “&amp;” instead of with the word “and”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uthors’ first names are always reduced to initial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Periodical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uthor, A. A., &amp; Author, B. B. (Year). Title of article.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tle of Periodical, xx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x)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xxx-xxx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acks, S. E. (2004). Fraud risk: are you prepared?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Journal of Accountancy, 198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3), 57-63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Nonperiodical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uthor, A. A. (Year).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tle of work.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cation: Publisher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ipson, C. (2004).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Doing honest work in college.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hicago: University of Chicago Pres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art of a nonperiodical (e.g., a book chapter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(Year). Title of chapter. In A. Editor (Ed.),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book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pp. xxx-xxx). Location: Publisher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ipson, C. (2004). Plagiarism and academic honesty. In  S. Jones (Ed.),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Integrity in scholarship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pp. 32-48). Chicago: University of Chicago Pres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References to Electronic Sourc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 general, include the same information as you would for a print resource, and add as much electronic retrieval info as needed to locate the sourc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tent with no fixed publication date should include a retrieval dat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the source has a DOI  (Digital Object Identifier), use it instead of a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rticle with DOI assign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A., &amp; Author, B. B. (Year). Title of article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Periodical, xx,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xx-xxx. doi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lli, B. (2007). Nuking food: Contamination fears and market possibilities spur an irradiation revival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E: The Environmental Magazine, 18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4), 136-142. doi: 10.1037/0002-9432.76.4.48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rticle with no DOI assign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A., &amp; Author, B. B. (Year). Title of article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Periodical, xx,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xx-xxx. Retrieved from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lli, B. (2007). Nuking food: Contamination fears and market possibilities spur an irradiation revival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E: The Environmental Magazine, 18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4), 136-142. Retrieved from 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emagazine.com/view/?3790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Encyclopedi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A. (Year). Title of article. In A. Editor (Ed.),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work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trieved month day, year, from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nnis, W. (2006). Sign Language. In G. Albrecht (Ed.), 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Encyclopedia of Disability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  Retrieved August 28, 2007, from Gale Virtual Reference Library, Pima County Public Library, 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.tppl.org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Newspaper artic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(Year, Month Day). Title of article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newspaper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Retrieved from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ico, G. (2007, August 28). Hayden could get Superfund cleanup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he Arizona Daily Star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trieved from 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azstarnet.com/metro/198476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areas of concern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Part I: Formatting your paper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Part II: The reference list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Part III: Parenthetical, or in-text citation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odcas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reator, Producer, Director, etc. (Person’s title). (Year, Month Day). Title of show, segment, etc. [Number or other identifier]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podcast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odcast retrieved from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lass, I. (Producer). (2007, August 3). Blame it on art [Show 73]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his American Life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Podcast retrieved from 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thisamericanlife.org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rticle on web site, no da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A. (n. d.)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article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trieved Month Day, Year, from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oughan, D. (n. d.)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J. R. R. Tolkien: A biographical sketch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trieved August 28, 2007, from 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lordotrings.com/noflash/biography.asp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 III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hetical, or in-text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ithin the body of your text, you must cite your sources as you use them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ou must cite any and all data, facts, information, opinions, ideas, tables, charts, graphics, photographs, etc. that you obtained in your research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 III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hetical, or in-text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araphras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ne idea is to surround quotations with big Q’s to distinguish the author’s words from your own ideas (Lipson, 2004)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Doing honest work in college,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pson (2004) suggests surrounding quotations with big Q’s to distinguish the author’s words from your own idea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___________________________________________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pson, C. (2004). 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Doing honest work in colleg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. Chicago: The University of Chicago Press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 III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hetical, or in-text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Direct quo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pson’s first rule of academic honesty is, “When you say you did the work yourself, you actually did it” (2004, p. 3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good rule to follow is “When you say you did the work yourself, you actually did it” (Lipson, 2004, p. 3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___________________________________________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pson, C. (2004). 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Doing honest work in colleg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. Chicago: The University of Chicago Press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matting rules make research papers uniform and easy to rea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ability to verify facts through proper citation of sources is essential to good scholarship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-text citation and the reference lis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dentify and credit the sources you u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nable the reader to locate your sour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ting your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e 8½ X 11 inch pap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12 point, New Times Roman, or similar fo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3 cm margins, 3,5 cm for left-hand margi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ouble-space your tex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ting your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umber pages consecutivel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first page is your title page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our nam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our affili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014560" y="189000"/>
            <a:ext cx="5114880" cy="666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www.colegiocanadiense.edu.co/portal/images/stories/titulos/logo_colegio_canadiense.jpg"/>
          <p:cNvPicPr/>
          <p:nvPr/>
        </p:nvPicPr>
        <p:blipFill>
          <a:blip r:embed="rId2">
            <a:grayscl/>
          </a:blip>
          <a:stretch/>
        </p:blipFill>
        <p:spPr>
          <a:xfrm>
            <a:off x="2843280" y="476280"/>
            <a:ext cx="350820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2124000" y="2708280"/>
            <a:ext cx="489600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ting your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bstract (summary) on page two,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if required by teacher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ext page: center full title, followed by the main body of the text on the next lin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dent the first line of each paragraph by five spaces (1 cm)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gures, tables, charts may be incorporated into the body of the tex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ference sources used in your paper must be listed. Start references on a new page after the body of your text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ist alphabetically by author’s last name (or title, if author not known)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98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purpose of the reference list is to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dentify and credit the sources you u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nable the reader to locate your sour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PA style is used in the social sciences, education, engineering and busines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mphasizes the date of public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600200"/>
            <a:ext cx="766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Heinerman, J. (1988).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Heinerman’s encyclopedia of fruits, vegetables and herbs.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Paramus, NJ: Prentice Hal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Kowalchik, C. &amp; Hylton, W. (1998).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Rodale’s illustrated encyclopedia of herbs.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Emmaus, PA: Rodale Pres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Wardlaw, G. M.  &amp; Smith, A. M. (2006).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Contemporary nutrition.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Boston: McGraw Hil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Weiss, S. E. (Ed.). (1997).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Foods that harm, foods that heal.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Pleasantville, NY: The Reader’s Digest Association, Inc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8:43:27Z</dcterms:created>
  <dc:creator>dhemmo</dc:creator>
  <dc:description/>
  <dc:language>en-US</dc:language>
  <cp:lastModifiedBy>Administrador Aula</cp:lastModifiedBy>
  <dcterms:modified xsi:type="dcterms:W3CDTF">2013-10-17T16:27:46Z</dcterms:modified>
  <cp:revision>14</cp:revision>
  <dc:subject/>
  <dc:title>The Basics of APA Style</dc:title>
</cp:coreProperties>
</file>