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3D4-1759-4F1C-89DF-7942B62F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4F5-D9BB-4DF2-98FB-D6319DF0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470-A014-4E9A-B74E-737D9D21A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334-E2B2-4D6E-A5DC-40BC40E3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BBF8-32B2-456F-B523-B8F060E2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81B5-1AAE-4D36-A5D5-276633BB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421A-EB21-4B18-87C3-3E5691A3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CFB4-3B6D-43E8-B162-CD51F7BE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2AA3-34AB-440E-BBA8-0F8E59DE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BD97-F4C0-4057-817A-14A43B47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F6F8-D680-4B16-97AD-54DF0954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6AC-C441-4E10-856E-5608128E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5929-9C4E-412C-A34C-5F4DBDC2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F4F0-8EC2-4B39-B8D1-6314815C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6ED7-FD1B-47BD-A05D-BD0B579C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7C28-1E52-40F6-8705-060EBE04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113A-D07C-421C-B778-6DCE0A52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7EA-A08B-4DC0-AE31-1BCB921A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9EE-4E97-442D-A32D-B9C76356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C7B-3069-445A-9171-AE2AF134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D2B-A3FA-4322-A1F6-078CB01F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75A-8476-4990-A583-E991674F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414-8386-46AF-B9C3-A633B92C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EC2-9BDF-4472-91BE-A8940630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D551-24D8-4EEB-A74D-CED7C2943A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34BA-CD3B-4428-BA9E-A5561F5518C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magazine.com/view/?3790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ppl.org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zstarnet.com/metro/198476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hisamericanlife.org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lordotrings.com/noflash/biography.asp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asics of APA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guide to student pap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you have more than one source by the same author, arrange by year of publication beginning with the earlies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pitalization: titles of books and articles are treated like sentences with only the first word capitalized. (Proper nouns should be capitalized, just as they would in a sentence.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ngle-author entries precede those with co-author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ultiple authors are joined with an ampersand “&amp;” instead of with the word “and”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hors’ first names are always reduced to initial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Periodica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hor, A. A., &amp; Author, B. B. (Year). Title of article.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tle of Periodical, xx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x)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xxx-xxx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acks, S. E. (2004). Fraud risk: are you prepared?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Journal of Accountancy, 198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3), 57-6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Nonperiodical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hor, A. A. (Year).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tle of work.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cation: Publishe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pson, C. (2004).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Doing honest work in college.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icago: University of Chicago Pres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art of a nonperiodical (e.g., a book chapter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(Year). Title of chapter. In A. Editor (Ed.),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book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pp. xxx-xxx). Location: Publisher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pson, C. (2004). Plagiarism and academic honesty. In  S. Jones (Ed.),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Integrity in scholarship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pp. 32-48). Chicago: University of Chicago Pres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References to Electronic Sourc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general, include the same information as you would for a print resource, and add as much electronic retrieval info as needed to locate the sourc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tent with no fixed publication date should include a retrieval dat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the source has a DOI  (Digital Object Identifier), use it instead of a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rticle with DOI assign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, &amp; Author, B. B. (Year). Title of article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Periodical, xx,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xx-xxx. doi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lli, B. (2007). Nuking food: Contamination fears and market possibilities spur an irradiation revival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E: The Environmental Magazine, 18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4), 136-142. doi: 10.1037/0002-9432.76.4.48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rticle with no DOI assign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, &amp; Author, B. B. (Year). Title of article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Periodical, xx,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xx-xxx. Retrieved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lli, B. (2007). Nuking food: Contamination fears and market possibilities spur an irradiation revival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E: The Environmental Magazine, 18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4), 136-142. Retrieved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emagazine.com/view/?3790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ncycloped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 (Year). Title of article. In A. Editor (Ed.),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work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month day, year,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nis, W. (2006). Sign Language. In G. Albrecht (Ed.), 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Encyclopedia of Disabilit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  Retrieved August 28, 2007, from Gale Virtual Reference Library, Pima County Public Library,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tppl.org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Newspaper artic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(Year, Month Day). Title of article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newspaper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Retrieved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ico, G. (2007, August 28). Hayden could get Superfund cleanup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he Arizona Daily Star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azstarnet.com/metro/198476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areas of concern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art I: Formatting your paper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art II: The reference list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art III: Parenthetical, or in-text citation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odca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reator, Producer, Director, etc. (Person’s title). (Year, Month Day). Title of show, segment, etc. [Number or other identifier]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podcast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odcast retrieved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lass, I. (Producer). (2007, August 3). Blame it on art [Show 73]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his American Life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Podcast retrieved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thisamericanlife.org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Article on web site, no da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uthor, A. A. (n. d.).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tle of article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Month Day, Year, from UR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ughan, D. (n. d.)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J. R. R. Tolkien: A biographical sketch.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trieved August 28, 2007, from </a:t>
            </a:r>
            <a:r>
              <a:rPr b="0" lang="en-US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lordotrings.com/noflash/biography.asp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III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tical, or in-text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ithin the body of your text, you must cite your sources as you use them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 must cite any and all data, facts, information, opinions, ideas, tables, charts, graphics, photographs, etc. that you obtained in your research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III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tical, or in-text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Paraphrasi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ne idea is to surround quotations with big Q’s to distinguish the author’s words from your own ideas (Lipson, 2004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oing honest work in college,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 (2004) suggests surrounding quotations with big Q’s to distinguish the author’s words from your own ide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___________________________________________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, C. (2004).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oing honest work in colleg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Chicago: The University of Chicago Press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III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enthetical, or in-text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Direct quo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’s first rule of academic honesty is, “When you say you did the work yourself, you actually did it” (2004, p. 3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good rule to follow is “When you say you did the work yourself, you actually did it” (Lipson, 2004, p. 3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___________________________________________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Lipson, C. (2004). 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Doing honest work in colleg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Chicago: The University of Chicago Press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matting rules make research papers uniform and easy to rea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ability to verify facts through proper citation of sources is essential to good scholarshi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-text citation and the reference lis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and credit the sources you u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able the reader to locate your 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your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 8½ X 11 inch pap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2 point, New Times Roman, or similar fo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3 cm margins, 3,5 cm for left-hand margi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uble-space your tex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your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umber pages consecutivel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first page is your title pag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r affili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014560" y="189000"/>
            <a:ext cx="5114880" cy="666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colegiocanadiense.edu.co/portal/images/stories/titulos/logo_colegio_canadiense.jpg"/>
          <p:cNvPicPr/>
          <p:nvPr/>
        </p:nvPicPr>
        <p:blipFill>
          <a:blip r:embed="rId2">
            <a:grayscl/>
          </a:blip>
          <a:stretch/>
        </p:blipFill>
        <p:spPr>
          <a:xfrm>
            <a:off x="2843280" y="476280"/>
            <a:ext cx="350820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2124000" y="2708280"/>
            <a:ext cx="489600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your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bstract (summary) on page two, 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if required by teacher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ext page: center full title, followed by the main body of the text on the next li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dent the first line of each paragraph by five spaces (1 cm)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gures, tables, charts may be incorporated into the body of the tex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ference sources used in your paper must be listed. Start references on a new page after the body of your text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ist alphabetically by author’s last name (or title, if author not known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98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purpose of the reference list is to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and credit the sources you u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nable the reader to locate your sourc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PA style is used in the social sciences, education, engineering and busines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mphasizes the date of public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of reference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600200"/>
            <a:ext cx="766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Heinerman, J. (1988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Heinerman’s encyclopedia of fruits, vegetables and herbs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Paramus, NJ: Prentice Hal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Kowalchik, C. &amp; Hylton, W. (1998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Rodale’s illustrated encyclopedia of herbs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Emmaus, PA: Rodale Pres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Wardlaw, G. M.  &amp; Smith, A. M. (2006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Contemporary nutrition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Boston: McGraw Hil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Weiss, S. E. (Ed.). (1997). </a:t>
            </a:r>
            <a:r>
              <a:rPr b="0" i="1" lang="en-US" sz="2400" spc="-1" strike="noStrike">
                <a:solidFill>
                  <a:srgbClr val="292929"/>
                </a:solidFill>
                <a:latin typeface="Times New Roman"/>
              </a:rPr>
              <a:t>Foods that harm, foods that heal. </a:t>
            </a: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Pleasantville, NY: The Reader’s Digest Association, Inc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8:43:27Z</dcterms:created>
  <dc:creator>dhemmo</dc:creator>
  <dc:description/>
  <dc:language>en-US</dc:language>
  <cp:lastModifiedBy>Administrador Aula</cp:lastModifiedBy>
  <dcterms:modified xsi:type="dcterms:W3CDTF">2013-10-17T16:27:46Z</dcterms:modified>
  <cp:revision>14</cp:revision>
  <dc:subject/>
  <dc:title>The Basics of APA Style</dc:title>
</cp:coreProperties>
</file>