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54A-C74A-49DE-9E9C-BF1364DC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020-9429-440A-ADAE-3EF93757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50D-7137-416E-BB3B-873EFF67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D7B-AECC-44CD-9B3F-07BCF584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DA1E-AFED-4317-9100-3ABF2D35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BF7E-1861-4B5D-8B8D-C387CE26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5FBD-E87D-4F86-B372-EB026486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7843-FFB5-4787-84D4-794C631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C1E8-BDF2-4F4D-A95E-E7D77BB8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F215-A3DB-4323-A158-F2E3D1EC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9F96-7543-4BF3-A00B-81B3C338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9DA-6880-4BE1-83AB-C5FF96D3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F70E-177F-43CF-AD69-51EE3DA7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893E-259F-4AE1-A81F-8C7CBBB0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C2AB-57EF-4617-BBA6-012C80CB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2AC-098D-4239-AD85-C40F49E7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7D2-F53F-434E-9FDB-F6B5BC1F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05E-0DB6-4487-BC11-D221374B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0BD-08EA-40FC-91BD-FCF78F81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07A-70B6-48F2-B6BA-B65C6486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1A4-3619-47A1-A570-660BC7D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885-386F-4A44-8624-EA33A492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B93-B73F-4C18-8324-ED40030D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971-FA4D-4193-ABDF-01DD86D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AE7-D712-4094-85AD-676BF84D32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0E4C-DF99-444E-91BE-D4B6AD38945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magazine.com/view/?3790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ppl.org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zstarnet.com/metro/198476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hisamericanlife.org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lordotrings.com/noflash/biography.asp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sics of APA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guide to student pap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have more than one source by the same author, arrange by year of publication beginning with the earlies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pitalization: titles of books and articles are treated like sentences with only the first word capitalized. (Proper nouns should be capitalized, just as they would in a sentence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ngle-author entries precede those with co-autho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ultiple authors are joined with an ampersand “&amp;” instead of with the word “and”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s’ first names are always reduced to initial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Periodic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tle of Periodical, xx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x)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xx-xxx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acks, S. E. (2004). Fraud risk: are you prepared?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Journal of Accountancy, 19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3), 57-6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nperiodic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, A. A. (Year)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tle of work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cation: Publish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Doing honest work in college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icago: University of Chicago Pres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art of a nonperiodical (e.g., a book chapte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(Year). Title of chapter. In A. Editor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book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pp. xxx-xxx). Location: Publisher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pson, C. (2004). Plagiarism and academic honesty. In  S. Jones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Integrity in scholarship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pp. 32-48). Chicago: University of Chicago Pres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References to Electronic Sour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general, include the same information as you would for a print resource, and add as much electronic retrieval info as needed to locate the sourc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ent with no fixed publication date should include a retrieval da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the source has a DOI  (Digital Object Identifier), use it instead of a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with DOI assig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eriodical, xx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xx-xxx. doi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lli, B. (2007). Nuking food: Contamination fears and market possibilities spur an irradiation revival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: The Environmental Magazine, 18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), 136-142. doi: 10.1037/0002-9432.76.4.48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with no DOI assig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eriodical, xx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xx-xxx.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lli, B. (2007). Nuking food: Contamination fears and market possibilities spur an irradiation revival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: The Environmental Magazine, 18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), 136-142. 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emagazine.com/view/?3790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 (Year). Title of article. In A. Editor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work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month day, year,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nis, W. (2006). Sign Language. In G. Albrecht (Ed.), 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ncyclopedia of Disabili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  Retrieved August 28, 2007, from Gale Virtual Reference Library, Pima County Public Library,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tppl.org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Newspaper artic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(Year, Month Day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newspaper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co, G. (2007, August 28). Hayden could get Superfund cleanup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he Arizona Daily Star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azstarnet.com/metro/198476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areas of concer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: Formatting your paper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I: The reference lis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II: Parenthetical, or in-text citatio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odca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eator, Producer, Director, etc. (Person’s title). (Year, Month Day). Title of show, segment, etc. [Number or other identifier]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odcast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dcast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ass, I. (Producer). (2007, August 3). Blame it on art [Show 73]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his American Life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odcast 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thisamericanlife.org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on web site, no d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 (n. d.)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article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Month Day, Year,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ughan, D. (n. d.)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J. R. R. Tolkien: A biographical sketch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August 28, 2007,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lordotrings.com/noflash/biography.asp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ithin the body of your text, you must cite your sources as you use them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 must cite any and all data, facts, information, opinions, ideas, tables, charts, graphics, photographs, etc. that you obtained in your research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ne idea is to surround quotations with big Q’s to distinguish the author’s words from your own ideas (Lipson, 2004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,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 (2004) suggests surrounding quotations with big Q’s to distinguish the author’s words from your own ide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___________________________________________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Chicago: The University of Chicago Pres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rect qu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’s first rule of academic honesty is, “When you say you did the work yourself, you actually did it” (2004, p. 3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good rule to follow is “When you say you did the work yourself, you actually did it” (Lipson, 2004, p. 3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___________________________________________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Chicago: The University of Chicago Pres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tting rules make research papers uniform and easy to rea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verify facts through proper citation of sources is essential to good scholarshi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-text citation and the reference lis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nd credit the sources you u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able the reader to locate your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8½ X 11 inch pap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2 point, New Times Roman, or similar fo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3 cm margins, 3,5 cm for left-hand marg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uble-space your tex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umber pages consecutiv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first page is your title pag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r affili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014560" y="189000"/>
            <a:ext cx="5114880" cy="666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colegiocanadiense.edu.co/portal/images/stories/titulos/logo_colegio_canadiense.jpg"/>
          <p:cNvPicPr/>
          <p:nvPr/>
        </p:nvPicPr>
        <p:blipFill>
          <a:blip r:embed="rId2">
            <a:grayscl/>
          </a:blip>
          <a:stretch/>
        </p:blipFill>
        <p:spPr>
          <a:xfrm>
            <a:off x="2843280" y="476280"/>
            <a:ext cx="350820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2124000" y="2708280"/>
            <a:ext cx="4896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bstract (summary) on page two,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f required by teacher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xt page: center full title, followed by the main body of the text on the next l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dent the first line of each paragraph by five spaces (1 cm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gures, tables, charts may be incorporated into the body of the tex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ference sources used in your paper must be listed. Start references on a new page after the body of your tex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st alphabetically by author’s last name (or title, if author not known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purpose of the reference list is to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nd credit the sources you u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able the reader to locate your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PA style is used in the social sciences, education, engineering and busines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mphasizes the date of public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600200"/>
            <a:ext cx="766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Heinerman, J. (1988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Heinerman’s encyclopedia of fruits, vegetables and herbs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aramus, NJ: Prentice Hal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Kowalchik, C. &amp; Hylton, W. (1998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Rodale’s illustrated encyclopedia of herbs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Emmaus, PA: Rodale Pres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ardlaw, G. M.  &amp; Smith, A. M. (2006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Contemporary nutrition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Boston: McGraw Hil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eiss, S. E. (Ed.). (1997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oods that harm, foods that heal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leasantville, NY: The Reader’s Digest Association, In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8:43:27Z</dcterms:created>
  <dc:creator>dhemmo</dc:creator>
  <dc:description/>
  <dc:language>en-US</dc:language>
  <cp:lastModifiedBy>Administrador Aula</cp:lastModifiedBy>
  <dcterms:modified xsi:type="dcterms:W3CDTF">2013-10-17T16:27:46Z</dcterms:modified>
  <cp:revision>14</cp:revision>
  <dc:subject/>
  <dc:title>The Basics of APA Style</dc:title>
</cp:coreProperties>
</file>